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D37-E995-482D-A08B-062CB885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082-571B-4805-AFEE-F6180A83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772-4EE3-4452-9462-BDBFF93A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567-3EF7-4040-B734-72D3A2C4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967-7FB6-489A-842D-A113456F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43B-F434-4D51-8380-7B08A1FC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C09-5067-4C3D-B608-FDDAF0C1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BAE-6E26-4481-A4DC-6781CDE3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744-521D-4EF7-A1EF-27ADB185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5F3-D741-488C-A7FF-167ABE11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09F-D472-4AFC-968A-F77814E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53C-0EFA-4C37-BED5-46B9A6C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203E-C2C0-4B9A-A358-E9C8C7D51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52280" y="304920"/>
            <a:ext cx="883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Climate Surprises, Catastroph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&amp; Fat Tai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841360" y="5029200"/>
            <a:ext cx="223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dith Cur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5334120" y="5638680"/>
            <a:ext cx="3200400" cy="10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27000" y="1905120"/>
            <a:ext cx="445140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77160" y="2490840"/>
            <a:ext cx="3352320" cy="1769760"/>
          </a:xfrm>
          <a:prstGeom prst="rect">
            <a:avLst/>
          </a:prstGeom>
          <a:solidFill>
            <a:srgbClr val="ccffff">
              <a:alpha val="3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he decision-analy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work is influe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terpretation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f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3640" y="149544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0b17"/>
                </a:solidFill>
                <a:latin typeface="Arial"/>
                <a:ea typeface="Cambria"/>
              </a:rPr>
              <a:t>Modal 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classifies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Cambria"/>
              </a:rPr>
              <a:t> propositions as contingen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Cambria"/>
              </a:rPr>
              <a:t>true or false, possible, impossible, or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Cambria"/>
              </a:rPr>
              <a:t>Frames possible vs not possible wor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9960" y="3165480"/>
            <a:ext cx="763596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Princip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for constructing future climate scenar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901"/>
              </a:spcBef>
              <a:buClr>
                <a:srgbClr val="c60b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0b17"/>
                </a:solidFill>
                <a:latin typeface="Arial"/>
                <a:ea typeface="Cambria"/>
              </a:rPr>
              <a:t>Modal indu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a statement about the future is     possibly true only if it is positively inferred from         our relevant background knowledge (IPC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901"/>
              </a:spcBef>
              <a:buClr>
                <a:srgbClr val="c60b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0b17"/>
                </a:solidFill>
                <a:latin typeface="Arial"/>
                <a:ea typeface="Cambria"/>
              </a:rPr>
              <a:t>Modal falsific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permits creatively constructed scenarios as long as they can’t be falsified by being incompatible with background knowled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70280" y="60480"/>
            <a:ext cx="69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dal falsification of 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tz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2920" y="257040"/>
            <a:ext cx="84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ssible/plausible(?) worst cas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20" y="1066680"/>
            <a:ext cx="79603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e of the West Antarctic I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ut down of the North Atlantic thermohaline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the methane stored in permaf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200400"/>
            <a:ext cx="4572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enarios would be genuinely catastroph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ossible/plausible timescales for the scenar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“falsify” any of these scenarios based upon our background knowledge of natural plus anthro C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91120" y="2452680"/>
            <a:ext cx="50292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24480" y="1676520"/>
            <a:ext cx="2590920" cy="1313640"/>
          </a:xfrm>
          <a:prstGeom prst="rect">
            <a:avLst/>
          </a:prstGeom>
          <a:solidFill>
            <a:srgbClr val="ccffff">
              <a:alpha val="47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Abrupt climate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occurs faster tha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apparent underl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driving for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977760"/>
            <a:ext cx="6108840" cy="5803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76760" y="54000"/>
            <a:ext cx="52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brupt Climat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8600" y="5591160"/>
            <a:ext cx="34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13591"/>
                </a:solidFill>
                <a:latin typeface="Arial"/>
              </a:rPr>
              <a:t>Figure from NAP Abrupt Clim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13591"/>
                </a:solidFill>
                <a:latin typeface="Arial"/>
              </a:rPr>
              <a:t>Change: Inevitable Surprises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0120" cy="6370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393960" y="594360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84200" y="6343560"/>
            <a:ext cx="32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g. 9.20 IPCC AR4 WG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56960" y="4632480"/>
            <a:ext cx="5601600" cy="9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---------------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IPCC AR4 “likely” [&gt;66%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7920" y="1314360"/>
            <a:ext cx="1864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st estim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066680"/>
            <a:ext cx="816912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The drive to reduce scientific uncertainty in support of precautionary and optimal decision making strategies regarding CO2 mitigation has arguably resulted 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unwarranted high confidence in assessmen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limate change attribution, sensitivity and 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elative neglect of defining/understand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plausible/possible worst cas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elative neglect of decadal and longer scale mod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natural climat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onflicting “certaint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and policy in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4920" y="60480"/>
            <a:ext cx="292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4305240"/>
            <a:ext cx="5105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93640" y="1219320"/>
            <a:ext cx="816948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obust decision making frameworks under deep uncertainty emphasiz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scenario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identifying a broad range of robust decis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Implications for climate research are an increased emphasi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exploring and understanding the full range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scenario discovery using a broader range of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natural climate variability, abrupt climate change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egional climat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7480" y="60480"/>
            <a:ext cx="431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56200" y="53352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judithcurry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52280" y="1447920"/>
            <a:ext cx="9296280" cy="195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4495680"/>
            <a:ext cx="39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certainty monster” a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ience-policy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24280" y="3917880"/>
            <a:ext cx="4419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0120" cy="637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93960" y="594360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84200" y="6343560"/>
            <a:ext cx="32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g. 9.20 IPCC AR4 WG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6960" y="4632480"/>
            <a:ext cx="5601600" cy="9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---------------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IPCC AR4 “likely” [&gt;66%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7920" y="1314360"/>
            <a:ext cx="1864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st estim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6680" y="54000"/>
            <a:ext cx="62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Precautionary Princi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95680" y="2754360"/>
            <a:ext cx="4648320" cy="410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360" y="1219320"/>
            <a:ext cx="8474040" cy="1099440"/>
          </a:xfrm>
          <a:prstGeom prst="rect">
            <a:avLst/>
          </a:prstGeom>
          <a:solidFill>
            <a:srgbClr val="ccffff">
              <a:alpha val="42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"Where there are threats of serious or irreversible damage, lack of full scientific certainty shall not be used as a reason for postponing cost-effective measures to prevent environmental degradation.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895480"/>
            <a:ext cx="3962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Based upon the precautionary principle, the UNFCCC established a goal of stabilization of atmospheric greenhouse gases to pr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dangerous climat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Stabilization targets are set at the lowest critical threshold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18520" y="33336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timal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82896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3485880" cy="4648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60760" y="1219320"/>
            <a:ext cx="5674680" cy="82548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search --&gt; less uncertainty --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consensus --&gt; meaningfu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514600"/>
            <a:ext cx="4130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When uncertainty is well characterized and the model structure is well known, classical decision analysis can suggest statistically optimal strategies for decision mak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Stabilization targets are optimized by climate model sim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93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cision Making Under Deep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308240"/>
            <a:ext cx="5257800" cy="4330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0800" y="5943600"/>
            <a:ext cx="8103960" cy="459720"/>
          </a:xfrm>
          <a:prstGeom prst="rect">
            <a:avLst/>
          </a:prstGeom>
          <a:solidFill>
            <a:srgbClr val="ccffff">
              <a:alpha val="47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ime horizons • poorly understood systems • surpr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4120" y="76212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obert Lem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78920" y="333360"/>
            <a:ext cx="48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obust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5040" y="2133720"/>
            <a:ext cx="4098960" cy="47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9080" y="12193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obust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is a strategy that seeks to reduce the range of possible scenarios over which the strategy performs poor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360" y="2286000"/>
            <a:ext cx="466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obustness is a propert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both degree of uncertainty and richness of policy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ompares regrets ove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ange of futur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onsiders unlikely but not impossible scenarios without letting them completely  dominate the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457200"/>
            <a:ext cx="899172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Low-probability, high-consequence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provide particular challenges to developing robust pol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an be associated with a fat-tailed probability distribu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Weitzman (2009) arg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that climate change 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stands or falls on the 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of how tail proba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are t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43400" y="3230640"/>
            <a:ext cx="4800600" cy="3627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3600" y="3718080"/>
            <a:ext cx="111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l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uncertain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7400" y="5257800"/>
            <a:ext cx="111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60b17"/>
                </a:solidFill>
                <a:latin typeface="Arial"/>
              </a:rPr>
              <a:t>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60b17"/>
                </a:solidFill>
                <a:latin typeface="Arial"/>
              </a:rPr>
              <a:t>uncertain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3600" y="228600"/>
            <a:ext cx="62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tastrophes and Surpr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699160"/>
            <a:ext cx="69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60b17"/>
                </a:solidFill>
                <a:latin typeface="Arial"/>
              </a:rPr>
              <a:t>fat ta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0120" cy="6370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393960" y="594360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84200" y="6343560"/>
            <a:ext cx="32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g. 9.20 IPCC AR4 WG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6960" y="4632480"/>
            <a:ext cx="5601600" cy="9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---------------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IPCC AR4 “likely” [&gt;66%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7920" y="1314360"/>
            <a:ext cx="1864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st estim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95360" y="1047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ssi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040" y="990720"/>
            <a:ext cx="87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31f20"/>
                </a:solidFill>
                <a:latin typeface="Times New Roman"/>
                <a:ea typeface="Cambria"/>
              </a:rPr>
              <a:t>Possibility theory</a:t>
            </a:r>
            <a:r>
              <a:rPr b="0" lang="en-US" sz="2400" spc="-1" strike="noStrike">
                <a:solidFill>
                  <a:srgbClr val="231f20"/>
                </a:solidFill>
                <a:latin typeface="Times New Roman"/>
                <a:ea typeface="Cambria"/>
              </a:rPr>
              <a:t> is an imprecise probability theo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mbria"/>
              </a:rPr>
              <a:t>driven by the principle of minimal specificity that states that any hypothesis not known to be impossible cannot be ruled 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mbri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mbria"/>
              </a:rPr>
              <a:t>possibility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mbria"/>
              </a:rPr>
              <a:t> distinguishes what is plausible versus the normal course of things versus surprising versus impossibl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32040" y="3581280"/>
            <a:ext cx="1270440" cy="268452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u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p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3357720"/>
            <a:ext cx="5257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2:00:03Z</dcterms:created>
  <dc:creator>user user</dc:creator>
  <dc:description/>
  <dc:language>en-US</dc:language>
  <cp:lastModifiedBy>user user</cp:lastModifiedBy>
  <cp:lastPrinted>2010-09-24T13:08:55Z</cp:lastPrinted>
  <dcterms:modified xsi:type="dcterms:W3CDTF">2010-12-15T22:14:56Z</dcterms:modified>
  <cp:revision>99</cp:revision>
  <dc:subject/>
  <dc:title>PowerPoint Presentation</dc:title>
</cp:coreProperties>
</file>