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C63-7F3E-4C0E-AAB5-F8F4D0D8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364-F522-4F5A-AB0B-27D7B78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442-11A4-476A-B762-4A84B62C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2B2-83AA-4514-BEEC-7F39F625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315-F043-4447-AC65-86108FD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D17-0342-4CA4-B585-67E8BDD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648-BB02-4006-8B42-1A130FF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107-9516-4D24-A992-D29EB5C8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45F-3A9D-4F44-9F24-535ECCF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E30-5213-4248-97AE-560C25D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7CC-F605-48B0-BEAF-A7528C20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E0-4C23-4BE6-8292-E375EE4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678E-2C6F-4805-906F-F213F561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52280" y="304920"/>
            <a:ext cx="883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Climate Surprises, Catastroph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&amp; Fat Tai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841360" y="5029200"/>
            <a:ext cx="22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dith Cur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5334120" y="5638680"/>
            <a:ext cx="3200400" cy="10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27000" y="1905120"/>
            <a:ext cx="445140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7160" y="2490840"/>
            <a:ext cx="3352320" cy="1769760"/>
          </a:xfrm>
          <a:prstGeom prst="rect">
            <a:avLst/>
          </a:prstGeom>
          <a:solidFill>
            <a:srgbClr val="ccffff">
              <a:alpha val="3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decision-analy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work is influe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pretation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93640" y="149544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classifies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 propositions as conting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true or false, possible, impossible, or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Cambria"/>
              </a:rPr>
              <a:t>Frames possible vs not possible wor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3165480"/>
            <a:ext cx="76359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rincip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for constructing future climate scena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buClr>
                <a:srgbClr val="c60b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indu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a statement about the future is     possibly true only if it is positively inferred from         our relevant background knowledge (IPC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buClr>
                <a:srgbClr val="c60b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b17"/>
                </a:solidFill>
                <a:latin typeface="Arial"/>
                <a:ea typeface="Cambria"/>
              </a:rPr>
              <a:t>Modal fals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permits creatively constructed scenarios as long as they can’t be falsified by being incompatible with background knowled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0280" y="60480"/>
            <a:ext cx="69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dal falsification of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z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2920" y="257040"/>
            <a:ext cx="84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sible/plausible(?) worst cas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20" y="1066680"/>
            <a:ext cx="79603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 of the West Antarctic I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t down of the North Atlantic thermohaline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the methane stored in permaf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200400"/>
            <a:ext cx="4572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enarios would be genuinely catastroph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ossible/plausible timescales for the scenar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“falsify” any of these scenarios based upon our background knowledge of natural plus anthro C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91120" y="2452680"/>
            <a:ext cx="50292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24480" y="1676520"/>
            <a:ext cx="2590920" cy="131364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Abrupt climate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occurs faster tha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apparent underl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mbria"/>
              </a:rPr>
              <a:t>driving fo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977760"/>
            <a:ext cx="6108840" cy="580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6760" y="5400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brupt 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8600" y="5591160"/>
            <a:ext cx="34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13591"/>
                </a:solidFill>
                <a:latin typeface="Arial"/>
              </a:rPr>
              <a:t>Figure from NAP Abrupt Clim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13591"/>
                </a:solidFill>
                <a:latin typeface="Arial"/>
              </a:rPr>
              <a:t>Change: Inevitable Surprises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066680"/>
            <a:ext cx="81691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The drive to reduce scientific uncertainty in support of precautionary and optimal decision making strategies regarding CO2 mitigation has arguably resulted 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unwarranted high confidence in assessmen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limate change attribution, sensitivity and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lative neglect of defining/understand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lausible/possible worst cas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lative neglect of decadal and longer scale mod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natural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nflicting “certaint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and policy in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4920" y="60480"/>
            <a:ext cx="29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430524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93640" y="1219320"/>
            <a:ext cx="816948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 decision making frameworks under deep uncertainty emphasiz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cenario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identifying a broad range of robust decis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Implications for climate research are an increased emphas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exploring and understanding the full rang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cenario discovery using a broader range of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natural climate variability, abrupt climate chang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egional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7480" y="60480"/>
            <a:ext cx="431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56200" y="53352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judithcurry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280" y="1447920"/>
            <a:ext cx="9296280" cy="195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4495680"/>
            <a:ext cx="39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certainty monster” a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ience-policy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24280" y="3917880"/>
            <a:ext cx="4419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6680" y="54000"/>
            <a:ext cx="62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Precautionary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2754360"/>
            <a:ext cx="4648320" cy="410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360" y="1219320"/>
            <a:ext cx="8474040" cy="1099440"/>
          </a:xfrm>
          <a:prstGeom prst="rect">
            <a:avLst/>
          </a:prstGeom>
          <a:solidFill>
            <a:srgbClr val="ccffff">
              <a:alpha val="42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"Where there are threats of serious or irreversible damage, lack of full scientific certainty shall not be used as a reason for postponing cost-effective measures to prevent environmental degradation.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95480"/>
            <a:ext cx="3962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Based upon the precautionary principle, the UNFCCC established a goal of stabilization of atmospheric greenhouse gases to pr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dangerous clima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Stabilization targets are set at the lowest critical threshol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18520" y="33336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timal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28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48588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0760" y="1219320"/>
            <a:ext cx="5674680" cy="8254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earch --&gt; less uncertainty --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consensus --&gt; meaningfu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514600"/>
            <a:ext cx="4130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When uncertainty is well characterized and the model structure is well known, classical decision analysis can suggest statistically optimal strategies for decision mak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mbria"/>
              </a:rPr>
              <a:t>Stabilization targets are optimized by climate model sim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93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cision Making Under Deep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308240"/>
            <a:ext cx="5257800" cy="433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00" y="5943600"/>
            <a:ext cx="8103960" cy="459720"/>
          </a:xfrm>
          <a:prstGeom prst="rect">
            <a:avLst/>
          </a:prstGeom>
          <a:solidFill>
            <a:srgbClr val="ccffff">
              <a:alpha val="47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ime horizons • poorly understood systems • surpr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4120" y="7621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obert Lem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78920" y="33336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obust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5040" y="2133720"/>
            <a:ext cx="4098960" cy="47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9080" y="121932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is a strategy that seeks to reduce the range of possible scenarios over which the strategy performs poor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2286000"/>
            <a:ext cx="466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obustness is a proper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both degree of uncertainty and richness of policy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mpares regrets ove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range of futur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onsiders unlikely but not impossible scenarios without letting them completely  dominate th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457200"/>
            <a:ext cx="899172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Low-probability, high-consequence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provide particular challenges to developing robust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can be associated with a fat-tailed probability distrib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Weitzman (2009) arg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that climate change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stands or falls on the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of how tail prob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are t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43400" y="3230640"/>
            <a:ext cx="4800600" cy="362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3600" y="3718080"/>
            <a:ext cx="111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l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7400" y="5257800"/>
            <a:ext cx="111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3600" y="228600"/>
            <a:ext cx="62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tastrophes and Surpr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699160"/>
            <a:ext cx="69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60b17"/>
                </a:solidFill>
                <a:latin typeface="Arial"/>
              </a:rPr>
              <a:t>fat ta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6370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93960" y="594360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84200" y="6343560"/>
            <a:ext cx="32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g. 9.20 IPCC AR4 WG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6960" y="4632480"/>
            <a:ext cx="560160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---------------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Arial"/>
              </a:rPr>
              <a:t>IPCC AR4 “likely” [&gt;66%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7920" y="1314360"/>
            <a:ext cx="186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estim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95360" y="1047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si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040" y="9907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31f20"/>
                </a:solidFill>
                <a:latin typeface="Times New Roman"/>
                <a:ea typeface="Cambria"/>
              </a:rPr>
              <a:t>Possibility theory</a:t>
            </a:r>
            <a:r>
              <a:rPr b="0" lang="en-US" sz="2400" spc="-1" strike="noStrike">
                <a:solidFill>
                  <a:srgbClr val="231f20"/>
                </a:solidFill>
                <a:latin typeface="Times New Roman"/>
                <a:ea typeface="Cambria"/>
              </a:rPr>
              <a:t> is an imprecise probability theo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driven by the principle of minimal specificity that states that any hypothesis not known to be impossible cannot be ruled 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possi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mbria"/>
              </a:rPr>
              <a:t> distinguishes what is plausible versus the normal course of things versus surprising versus impossib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32040" y="3581280"/>
            <a:ext cx="1270440" cy="26845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u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57720"/>
            <a:ext cx="5257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2:00:03Z</dcterms:created>
  <dc:creator>user user</dc:creator>
  <dc:description/>
  <dc:language>en-US</dc:language>
  <cp:lastModifiedBy>user user</cp:lastModifiedBy>
  <cp:lastPrinted>2010-09-24T13:08:55Z</cp:lastPrinted>
  <dcterms:modified xsi:type="dcterms:W3CDTF">2010-12-15T22:14:56Z</dcterms:modified>
  <cp:revision>99</cp:revision>
  <dc:subject/>
  <dc:title>PowerPoint Presentation</dc:title>
</cp:coreProperties>
</file>